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80E5-BCDE-44BD-AEA7-4052ED192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0ADB-CFB1-486A-8807-56B07CFF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C1E8-5108-460A-8D7B-D40A3106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F7A1-6255-4AF1-AD21-D746BDD01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B17F-337A-409C-A912-C0DF5428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3B29-1865-4B21-BD78-AD6359FA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A3FA-4853-4F15-9D66-298F268A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E144-0E50-4D95-97D8-BA3F2802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50F4-5EE7-4534-926D-C6B51261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3039-9654-44D6-B9F3-D5A6C122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3840-09D0-447C-A83A-46628540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FA3D-B848-4B41-A3DC-0C2DB45B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1002d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d1002d"/>
              </a:buClr>
              <a:buSzPct val="75000"/>
              <a:buFont typeface="Web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d1002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d1002d"/>
              </a:buClr>
              <a:buSzPct val="7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9621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9652-96AA-4448-8CDC-718E54A4F120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0" descr="bande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E PRINCIPE DE PROPORTIONNALIT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ISTI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OPORTIONNA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E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14720" y="2220840"/>
            <a:ext cx="64800" cy="2351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822320" y="4572000"/>
            <a:ext cx="785880" cy="6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2320" bIns="22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 rot="20130000">
            <a:off x="944640" y="2107800"/>
            <a:ext cx="2682720" cy="6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084320" y="270828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484440" y="1573200"/>
            <a:ext cx="0" cy="44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0880" y="3300480"/>
            <a:ext cx="2012040" cy="844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AVANT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MILITAI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714760" y="2038320"/>
            <a:ext cx="1585800" cy="50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DOMM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COLLATERA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5881680" y="4508640"/>
            <a:ext cx="784080" cy="6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2320" bIns="22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273720" y="2093760"/>
            <a:ext cx="65160" cy="241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 rot="1203600">
            <a:off x="5095440" y="2093760"/>
            <a:ext cx="2684520" cy="6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5160960" y="1712880"/>
            <a:ext cx="0" cy="44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7713720" y="2602080"/>
            <a:ext cx="0" cy="44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515640" y="3048120"/>
            <a:ext cx="2626200" cy="844200"/>
          </a:xfrm>
          <a:prstGeom prst="rect">
            <a:avLst/>
          </a:prstGeom>
          <a:solidFill>
            <a:srgbClr val="f41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000000"/>
                </a:solidFill>
                <a:latin typeface="Garamond"/>
                <a:ea typeface="Arial"/>
              </a:rPr>
              <a:t>DOMMAG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000000"/>
                </a:solidFill>
                <a:latin typeface="Garamond"/>
                <a:ea typeface="Arial"/>
              </a:rPr>
              <a:t>COLLATERAUX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655520" y="2158920"/>
            <a:ext cx="1201320" cy="50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AVAN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MILITA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4440240" y="1413000"/>
            <a:ext cx="0" cy="5400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1644120" y="5270400"/>
            <a:ext cx="1123560" cy="676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3900" spc="-1" strike="noStrike">
                <a:solidFill>
                  <a:srgbClr val="808080"/>
                </a:solidFill>
                <a:latin typeface="Garamond"/>
                <a:ea typeface="Arial"/>
              </a:rPr>
              <a:t>OU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5778360" y="5208480"/>
            <a:ext cx="1335240" cy="676800"/>
          </a:xfrm>
          <a:prstGeom prst="rect">
            <a:avLst/>
          </a:prstGeom>
          <a:solidFill>
            <a:srgbClr val="f41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3900" spc="-1" strike="noStrike">
                <a:solidFill>
                  <a:srgbClr val="000000"/>
                </a:solidFill>
                <a:latin typeface="Garamond"/>
                <a:ea typeface="Arial"/>
              </a:rPr>
              <a:t>N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45C5-AC48-413C-A85C-7C59EED042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001B"/>
          <p:cNvPicPr/>
          <p:nvPr/>
        </p:nvPicPr>
        <p:blipFill>
          <a:blip r:embed="rId1"/>
          <a:stretch/>
        </p:blipFill>
        <p:spPr>
          <a:xfrm>
            <a:off x="1773360" y="1752480"/>
            <a:ext cx="643392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3635280" y="3741840"/>
            <a:ext cx="32418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Times New Roman"/>
              </a:rPr>
              <a:t>légitime 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estruction massive"/>
          <p:cNvPicPr/>
          <p:nvPr/>
        </p:nvPicPr>
        <p:blipFill>
          <a:blip r:embed="rId1"/>
          <a:stretch/>
        </p:blipFill>
        <p:spPr>
          <a:xfrm>
            <a:off x="1403280" y="1700280"/>
            <a:ext cx="7345440" cy="4654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v-p-bo-e-00090"/>
          <p:cNvPicPr/>
          <p:nvPr/>
        </p:nvPicPr>
        <p:blipFill>
          <a:blip r:embed="rId1"/>
          <a:stretch/>
        </p:blipFill>
        <p:spPr>
          <a:xfrm>
            <a:off x="1103400" y="1273320"/>
            <a:ext cx="7572240" cy="4903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12"/>
          <p:cNvSpPr/>
          <p:nvPr/>
        </p:nvSpPr>
        <p:spPr>
          <a:xfrm>
            <a:off x="422640" y="2987640"/>
            <a:ext cx="2056320" cy="2093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FONCER S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LE RHIN 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LA RUH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ET METT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FIN A L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GUER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ZoneTexte 4"/>
          <p:cNvSpPr/>
          <p:nvPr/>
        </p:nvSpPr>
        <p:spPr>
          <a:xfrm>
            <a:off x="-401760" y="1790640"/>
            <a:ext cx="91062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Garamond"/>
                <a:ea typeface="Arial"/>
              </a:rPr>
              <a:t>De juin à novembre 1944, les bombardements alliés sur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Garamond"/>
                <a:ea typeface="Arial"/>
              </a:rPr>
              <a:t>l'infrastructure de la France occupé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662280" y="5697360"/>
            <a:ext cx="785880" cy="6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2680" bIns="22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052880" y="3365640"/>
            <a:ext cx="65160" cy="235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20208000">
            <a:off x="2787480" y="3308040"/>
            <a:ext cx="2684520" cy="6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882880" y="3807000"/>
            <a:ext cx="0" cy="50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351400" y="2862360"/>
            <a:ext cx="0" cy="44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950120" y="4311720"/>
            <a:ext cx="1954080" cy="844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NECESSI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MILITAI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572000" y="3303720"/>
            <a:ext cx="1585800" cy="508680"/>
          </a:xfrm>
          <a:prstGeom prst="rect">
            <a:avLst/>
          </a:prstGeom>
          <a:solidFill>
            <a:srgbClr val="f41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Garamond"/>
                <a:ea typeface="Arial"/>
              </a:rPr>
              <a:t>DOMM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Garamond"/>
                <a:ea typeface="Arial"/>
              </a:rPr>
              <a:t>COLLATERA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6326280" y="2798640"/>
            <a:ext cx="2597040" cy="3769200"/>
          </a:xfrm>
          <a:prstGeom prst="rect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Garamond"/>
                <a:ea typeface="Arial"/>
              </a:rPr>
              <a:t>CIVILS </a:t>
            </a: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(beaucoup d'enfan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TUES : 3.1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BLESSES: 5.22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Garamond"/>
                <a:ea typeface="Arial"/>
              </a:rPr>
              <a:t>DETRU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HOPITAUX : 2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EGLISES : 4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ECOLES : 11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MAISONS : 31.17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ZoneTexte 15"/>
          <p:cNvSpPr/>
          <p:nvPr/>
        </p:nvSpPr>
        <p:spPr>
          <a:xfrm>
            <a:off x="1260360" y="5950080"/>
            <a:ext cx="7704360" cy="13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Garamond"/>
                <a:ea typeface="Arial"/>
              </a:rPr>
              <a:t>Selon vous, est-ce proportionnel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8:58:17Z</dcterms:created>
  <dc:creator>CICR</dc:creator>
  <dc:description/>
  <dc:language>en-US</dc:language>
  <cp:lastModifiedBy>ICRC</cp:lastModifiedBy>
  <dcterms:modified xsi:type="dcterms:W3CDTF">2013-07-16T16:18:13Z</dcterms:modified>
  <cp:revision>89</cp:revision>
  <dc:subject/>
  <dc:title>International Committee  of the Red Cross</dc:title>
</cp:coreProperties>
</file>